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6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7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8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6667-CDFD-4703-A7A1-44F2FFD0D7A7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383F-5C34-45D9-AAD4-B4A224F36EBD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B5FDB-3F16-47D6-AEC4-2EDED4734503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0082C-01DA-471F-88C6-263A767A1107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E6A9F-C45A-4327-A09A-2FB693B0DE5A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7974-0243-4FCE-9879-56DF8C1B0FC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7BE5D-387F-4741-9636-48EF0D01F49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D31B7-A23E-44C7-BFBA-97EE2E7806E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1CBC4-EC8F-47C8-A3D4-BEA09CC93A5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D572F-4724-49B7-8AA4-D56645A685E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679D7-E337-44A7-867C-E078B9E67A93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F2A10-3771-40B5-B8B3-DAACC0C7DAA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963A-45F8-41FD-A31B-A363BE6A2CC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5860-A82E-4556-9EEA-5170619FC3C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07313-0A52-4B1C-8CF8-FE5CD14D374E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8BD1F-FDDD-4424-A3A1-4455C8897D4D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6781F-D3A7-441C-96A8-AFD57BDC000B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7CB6B-4DED-4BDE-B779-03E3D0B76C3E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85B17-A9CE-45F6-B1DD-CCCE4C6989BD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F64F0-DD70-460C-803D-D93EB17D891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C8F9E-6746-41D6-A150-6089D3B4EF5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5C548-D162-477A-B83F-7F1F0233B902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9CF9-737F-4368-A6CD-3FDCD321FED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BF5D-4515-491C-B0E6-0A82AE5DF44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E898-6559-49FD-89C5-526E5470BBA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0858D-75D5-4BAC-A944-FAB6A939825D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A4825-BCAF-4D52-868B-679FF63948D9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47CD1-7851-493A-AA6C-A549503876E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8E301-42B7-48E0-970A-5F2D4742612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40BF-EFF5-4D2D-A054-CA4070557E1B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679B3-8E3B-4A4B-B768-6C6C1D6EB1C2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47404-7FC3-4C70-896A-B429223C984B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1E1E3-109F-4772-8E4D-C3161248022F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18AD4-3AAF-49B5-A373-7E882B27412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A660F-3834-45CF-B622-3FC6EBB65750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C9503-386A-4274-A78C-BE2231D576D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26E3-A5C7-46FE-834A-DE7C22DA9E11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DC822-7FF2-439D-8DD2-4457079EE6C8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27421-5047-42C6-BB5A-07B15C5DD516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5EB50-EE84-4A8F-9461-7A9060B3BE74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416BE-5EC3-4F62-B3CA-F6DBB0277DB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14E-9D9E-439E-BB9C-7A596672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21B-C51C-4905-9C86-AE35CF6C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C2DFC-AD28-444E-A6F5-B01B493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2C5E2-8A70-44D2-9B9B-D2B258D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37C402-60D6-48C0-9463-39D75895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6C4446-E27E-4CD8-9D6A-F81F5642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D2BCB4-5B9E-4A40-97EF-8C607CE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C9C15-F753-4E4E-A131-4290674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EB03F-079A-45F0-A4DC-94ED78F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24514-7261-4FFB-A6BF-56C36458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336BE-3FBF-4D24-A513-9DE9D66C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F23585-84A7-4300-A69D-F5146C67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C13-B955-46A6-B611-6464B78C5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F41BD-69C3-4CB6-AD56-1B9B894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4DCD12-1565-4428-A43E-1FFC635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067A25-33B4-4219-8888-BB6AD032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BB33D-33F5-48E3-92F1-50D57521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3D2078-954A-4733-B450-EF15C685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BE3536-D8EC-443D-B729-0C1F090A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FB5150-4CB1-4D53-94B2-CF7D334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F2E10C-C83D-423A-B892-B6BEB8E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89B8DA-0D3B-47D2-9251-1EC71F46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A38A97-CCF6-47CF-8E92-FCD6BBF7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F47-A302-4E3F-B64B-F9A9E18D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D569DE-3828-4CE7-8A14-27BC714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7D975C-3031-4FAB-83CC-88409D46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EF617B-8DC8-4C90-B0C2-E97CF48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8B427-A5AB-4032-9FCB-092D5A88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61C8CA-FCC1-491B-98E0-F341F2E6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438107-BBB9-4DAE-84D2-342DC0AF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BB2463-4755-4686-B03E-622DC22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54E6A-68C6-4446-A58D-1ECF16BB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BDE3EB-0701-442E-A953-071F1AD5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575DC1-B061-4121-A824-4B19E0AD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112BA-954D-408A-9E94-D5D96AF4CE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56D60D-AB24-49BE-80E4-C3BD8AC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F20AEE-6D02-48A6-BC3D-F24B5188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28303-55B5-43DA-A39E-3698D21A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594BE3-BACB-43E7-96D1-3088031A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46FE33-C564-487A-BA0C-B5F5E83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2AA80B-84AD-4D98-9CC3-585B9E9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FE780F-92ED-477D-A0C1-1F49DA42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4F312D-EB82-458C-B1F9-E16BEBE8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6C3B6F-416E-4C2C-B7C9-FB5CCAE1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D2DBC4-01FE-4A8E-BB0A-E81BC57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8C51D-45BF-4757-B394-A6B4959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8D0E81-3336-4290-B0B1-FC4F15A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7A5C24-EC5F-4A37-AE99-886B58DF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CDC2D3-6624-4327-87D5-A222E2E2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9AA9C3-6C92-4FE7-B2D4-E1E899B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9CF57B-7F8E-490B-94AD-898CC002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42FEA-68BA-40BE-AAD0-F7008B7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55CC-9EF7-40F5-B1C3-518B358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83B0F-6FBB-4E32-A364-3B897BDF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0EA3-C7CD-4762-B6DE-83BDA150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E4D77-D8F3-4C1D-B8CE-F5B30B35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C53-D2B1-43BE-84E5-7A6C395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AB32-BB20-480B-90CB-806B4FDB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2AC02-A891-4D7D-A919-A6E7212C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13C3-6A00-4422-8AD2-2447365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25D0D-828D-4377-879D-64ABB22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0DB99-49C3-4137-8930-9796C6191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AF9E4-AB10-4052-8CFE-11EA51BB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CBC33-AFFC-49BA-BD4A-5CF77F3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D342F-88FC-4CD9-B512-7BDCD111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C7C5E-C2BB-4F15-AF6B-2C47C810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0342A-F88E-4C2D-A244-9985C4BF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272-7FA1-4BC3-A3B9-E80292E8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7685F-9F84-4D55-9570-D4C0B7A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10745-8708-4DAD-BAB1-E545BF5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0501B-CD72-40C9-A82B-3DC1ACE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B9417-2D51-4BD8-A577-9AC8F624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92D9F-F43A-422D-9C07-36A5412C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86865-C367-4265-9CC0-D1C27088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5BDEC-F7D3-4BEB-AE2C-13B26AB9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18F36-3DC8-4E21-ADD6-3CBC16D0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93178-D305-4E29-8084-74F38451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611E8-F332-4E20-A098-E426171F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B5C-6028-4A48-97E1-C5D2C29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68699-102E-448A-B6CA-E488DE07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4CE45-E6BB-4059-8B12-A36224E4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574E8-104A-4C5D-8EF8-A399A6F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B53A4-D934-4FCC-B0CD-4312298F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34204-684A-4BEE-B7DD-D74F39C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6E022-E634-4683-8ECA-815CED0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2BFB4-F539-419B-8EEB-0DCA3FD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6EC55-7BD5-4159-8690-1F30CDED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F4813-6F4A-467B-9D65-B5EEF26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9F7E1-3D67-4439-B083-B7372961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F3E-8A61-42FD-B944-F4AE4E0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9F49F-CBC5-41D1-8C0B-950EBAC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D75B1-E330-45C4-A22A-93E3593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9FE04-D431-4BB9-8B99-DC745673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BC2B4-31DF-4050-B1B6-EE6961CA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BD4F3-0F23-4E6D-81F2-D2DA4DBE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89714-DE63-4AB7-852B-5055177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9743F-6E4D-42BC-A1E3-DF81963B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AD7E1-7298-4029-AC31-2FD5520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CA1EC-011E-42BE-B858-B80D6FF2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FA37B-2533-45D6-9F8F-FBBBBACE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A27-72A6-4CCB-8015-4C06B912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D68D7-58A5-47F1-929A-A90D54C9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EDE04-63D8-466F-836E-BFD0CD66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F8377-7161-4778-97C7-E05B745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28BD7-696D-4C4A-9DEC-85FAB8B8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82FE44-1EB2-4AED-95B7-ECFA6B08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75B2C-70C3-4266-BB40-ECBB4321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04E21-77BB-4B06-8445-5C98C200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01305-631D-4B96-B675-A5E957E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753E2-F942-4454-B17E-9C0F113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A0F97-CFC9-4D29-8594-C76E9D89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ED5-C9ED-42E8-9510-806C5482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4C354-88F2-4D11-ABCC-6AABB1C5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7C753A-A48B-4962-8E81-14C77BEB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847C5-1B23-4B81-8CDA-4AA2E78C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1A1F12-1D1F-437F-B217-E1BA726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B3C97-D23D-4EC5-A47E-D0BF967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5E34C-EEE6-4519-B3D0-70D281C2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0F2FAB-CD18-4D47-BE37-2A04B4B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F35E1-FB50-4E3A-9ACF-63213B48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F8343-742D-4B39-B35D-F29BE21E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229F1-CE82-4840-8A19-A6A64EE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F5A-881E-4156-A869-11D1326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B2B6D-D5B2-425F-BA05-0EA1CCA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D203C-3429-4E77-8ACB-457F022F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2CE90-12A8-45B9-B2E1-F2F8E177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75D17-CA82-4E61-9C9E-5EE2AF8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44F1D-A1EE-448D-9096-3D2CF3F3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81D69-9FFA-4B4E-B5AE-69A0F9E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D199CA-7641-4BE3-A633-4545A70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C5638-3A3A-4776-8B2D-A530FD67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E626D-D2FF-4F27-8D07-A9E3E0DB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BAB29-BC80-4F02-9834-F76B0E1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DA5-A5D9-4A24-BB42-80125324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A6906-724A-4998-94C6-C626E91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660BB-D658-4B1F-B851-C2D44F29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3E984-9D5C-494F-8C8E-F895F07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27F92-2CAC-4092-8AE0-894D1044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30DBC-6017-41AA-A215-F65694F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0B877-F8DA-4E32-A14C-34452315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C0966-50D9-4405-A492-53FF39BA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F7B60-EE3E-43FD-90DC-ABFBC7D1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53657-FBE3-4119-AD3C-B0CF6DDF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B23799-7E9F-4A00-B725-B13EA1C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2EB3-4EFD-479C-B133-9F4E636CFC7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C046-D243-4A88-A9AC-BD027BF4B69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13D-90A9-4D82-BA97-BED104E4FFE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AD28-44EE-4E0C-9461-8A543449494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8632-1964-4D1C-803C-45336CC3E97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8"/>
          </p:nvPr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EAB1-2B36-4EF9-9035-0A03923C339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316-9CB4-478B-9946-38B6FEBCCB0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3E69-4D88-4F9F-B607-209EE2597C6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4D3E-8240-43D2-B26F-6C3AA0D8377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B48C-DF35-4AB6-B9DB-884CF629453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6C45-EE9C-4CAF-AED8-8EF8F6AD2DC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7E9-7AE0-4B5C-BF64-6CD6D31CD12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WEB DEVELOPMENT &amp; DESIGN FOUNDATIONS  WITH  HTML5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09480" y="4114440"/>
            <a:ext cx="792504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Chapter 1</a:t>
            </a:r>
            <a:br>
              <a:rPr sz="2800"/>
            </a:b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A037-4B26-4B5C-B7F0-F610D03EC8D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26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ACCESSIBILIT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1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Accessible Websit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rovides accommodations for individuals with visual, auditory, physical, and neurological disabiliti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A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W3C’s Web Accessibility Initiativ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http://www.w3.org/WAI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CAG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Web Content Accessibility Guidelines</a:t>
            </a:r>
            <a:br>
              <a:rPr sz="30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http://www.w3.org/WAI/WCAG20/quickref/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375-3EBF-408F-B61F-A62411CA25D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ACCESSIBILITY &amp; THE LAW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12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8000"/>
          </a:bodyPr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mericans with Disabilities Act (ADA)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rohibits discrimination against people with disabiliti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0168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ction 508 of the Rehabilitation Ac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quires that government agencies must give individuals with disabilities access to information technology that is comparable to the access available to other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53760" indent="-2401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ttp://www.section508.gov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671-99B0-4BE3-B58B-BC54A57A1DF8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UNIVERSAL DESIGN FOR THE WEB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Universal Desig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design of products and environments to be usable by all people, to the greatest extent possible, without the need for adaptation or specialized desig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D70F-52FE-4C9B-9987-3AE441CFFF6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Box 4"/>
          <p:cNvSpPr/>
          <p:nvPr/>
        </p:nvSpPr>
        <p:spPr>
          <a:xfrm>
            <a:off x="403920" y="6248520"/>
            <a:ext cx="46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ncsu.edu/www/ncsu/design/sod5/cud/about_ud/about_ud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RELIABILITY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NFORMATION ON THE WEB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Questions to Ask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s the organization credible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ow recent is the information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Are there links to additional resources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Is it Wikipedia?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6A39-6526-4B53-9141-B7D6B6A2BCE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 1.1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676160" y="13716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difference between the Internet and the Web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Explain three events that contributed to the commercialization and exponential growth of the Interne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53680" indent="-4780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s the concept of universal design important to web developers? Explain your answer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220C-FFA8-44F4-B03C-6748B73E672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NETWORK OVERVIEW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218960" y="14475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Net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o or more computers connected together for the purpose of communicating and sharing resource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0996-9F2E-43E6-A1EB-E848D472100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24242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7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6478560" cy="22212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NETWORK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LAN – Local Area Networ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sually confined to a single building or group of building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AN – Wide Area Network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Usually uses some form of public or commercial communications network to connect computers is widely dispersed geographical are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871A-9125-40A0-B1EC-B910639ED7C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ERNET INFRASTRUCTUR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990360" y="1349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Internet Backbon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high capacity communication link that carries data gathered from smaller links that interconnect with it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34DB-E022-45B2-8C49-46B97B95823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Box 1"/>
          <p:cNvSpPr/>
          <p:nvPr/>
        </p:nvSpPr>
        <p:spPr>
          <a:xfrm>
            <a:off x="180720" y="6324480"/>
            <a:ext cx="47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urce: http://www.alamo.edu/sac/library/faculty/deosdade/wwwtest2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Picture 9" descr="http://www.alamo.edu/sac/library/faculty/deosdade/IBMBACK2.JPG"/>
          <p:cNvPicPr/>
          <p:nvPr/>
        </p:nvPicPr>
        <p:blipFill>
          <a:blip r:embed="rId1"/>
          <a:stretch/>
        </p:blipFill>
        <p:spPr>
          <a:xfrm>
            <a:off x="1371600" y="2514600"/>
            <a:ext cx="6477120" cy="3451320"/>
          </a:xfrm>
          <a:prstGeom prst="rect">
            <a:avLst/>
          </a:prstGeom>
          <a:ln w="0">
            <a:noFill/>
          </a:ln>
        </p:spPr>
      </p:pic>
      <p:sp>
        <p:nvSpPr>
          <p:cNvPr id="659" name="Rectangle 8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HE CLIENT/SERVER MODE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371240" y="1371600"/>
            <a:ext cx="719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lient/Server can describe a relationship between two computer programs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e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lient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" and the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erv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"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li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quests some type of service (such as a file or database access) from the serv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erv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fulfills the request and transmits the results to the client over a networ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E45-E318-4BEE-BE6A-250D65FE0C9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HE INTERNET CLIENT/SERVER MODE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90360" y="1218960"/>
            <a:ext cx="7194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lient – Web Browse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erver  –  Web Server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4202-F357-45AD-9ED5-5C95DAA7A4D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7" name="Picture 9" descr="Figure1"/>
          <p:cNvPicPr/>
          <p:nvPr/>
        </p:nvPicPr>
        <p:blipFill>
          <a:blip r:embed="rId1"/>
          <a:stretch/>
        </p:blipFill>
        <p:spPr>
          <a:xfrm>
            <a:off x="1143000" y="2496960"/>
            <a:ext cx="7043760" cy="381024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9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7305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LEARNING OUTCOME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523520" y="1294920"/>
            <a:ext cx="6782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 this chapter, you will learn how to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the evolution of the Internet and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xplain the need for web standard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Universal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benefits of accessible web desig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reliable resources of information on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ethical use of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the purpose of web browsers and web server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networking protocol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fine URIs and domain nam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HTML, XHTML, and HTML5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popular trends in the use of the Web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138-FC60-4C7E-9401-61CCA8CD8835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CLI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914040" y="2057040"/>
            <a:ext cx="8039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nected to the Internet when neede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sually runs web browser (client) soft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uch as Internet Explorer or Firefox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ses HTTP (Hypertext Transfer Protocol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Requests web pages from serv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Receives web pages and files from server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3A3-50CD-497A-9519-258A6EB8F23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Picture 7" descr=""/>
          <p:cNvPicPr/>
          <p:nvPr/>
        </p:nvPicPr>
        <p:blipFill>
          <a:blip r:embed="rId1"/>
          <a:stretch/>
        </p:blipFill>
        <p:spPr>
          <a:xfrm>
            <a:off x="12600" y="0"/>
            <a:ext cx="1581120" cy="171468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7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8380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inually connected to the Inter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uns web server software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Gill Sans MT"/>
              </a:rPr>
              <a:t>(such as Apache or Internet Information Server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Uses HTTP (Hypertext Transfer Protocol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ceives request for the web pag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5880" indent="-2674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sponds to request and transmits status code, web page, and associated fil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D30-1070-4C1D-A826-4373A8A2333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379520" cy="17524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IME TYP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Multi-Purpose Internet Mail Extension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allow multimedia docume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o be exchanged amo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many different computer systems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F7B-6566-454B-8769-6E22064845D7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ERNET PROTOCO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Protoco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Rules that describe the methods used for clients and servers to communicate with each other over a network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re is no </a:t>
            </a:r>
            <a:r>
              <a:rPr b="0" i="1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ingle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protocol that makes the Internet and Web work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 number of protocols with specific functions are needed.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50D-FB79-4154-B9EE-DDC52434709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FTP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FILE TRANSFER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allow files to be exchanged between computers on the Interne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eb developers commonly use FTP to transfer web page files from their computers to web server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FTP is also used to download programs and files from other servers to individual computers.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F28-3DA7-4FE9-9CA9-40F30F0361F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E-MAIL PROTOCOL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371600" y="1294920"/>
            <a:ext cx="6603840" cy="3738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 marL="31536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 MT"/>
              </a:rPr>
              <a:t>Sending E-mail</a:t>
            </a:r>
            <a:endParaRPr b="0" lang="en-US" sz="37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SMTP Simple Mail Transfer Protocol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1536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 MT"/>
              </a:rPr>
              <a:t>Receiving E-mail</a:t>
            </a:r>
            <a:endParaRPr b="0" lang="en-US" sz="37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POP (POP3) Post Office Protoco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83280" indent="-2512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IMAP Internet Mail Access Protocol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2" marL="1051560" indent="-250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B540-891C-4DC9-8CFD-C5CC29A28B3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TP - HYPERTEXT TRANSFER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64920" y="12952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for exchanging files such as text, graphic images, sound, video, and other multimedia files on the Web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Web browsers send HTTP requests for web pages and their associated file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Arial"/>
              </a:rPr>
              <a:t>Web servers send HTTP responses back to the web browsers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9AF5-1FA7-4E8E-AFAF-4531329437D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8" name="Picture 9" descr="Figure1"/>
          <p:cNvPicPr/>
          <p:nvPr/>
        </p:nvPicPr>
        <p:blipFill>
          <a:blip r:embed="rId1"/>
          <a:stretch/>
        </p:blipFill>
        <p:spPr>
          <a:xfrm>
            <a:off x="2514600" y="2057400"/>
            <a:ext cx="3843360" cy="207972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1"/>
          <p:cNvSpPr/>
          <p:nvPr/>
        </p:nvSpPr>
        <p:spPr>
          <a:xfrm>
            <a:off x="3809880" y="2057400"/>
            <a:ext cx="1386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 requ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13"/>
          <p:cNvSpPr/>
          <p:nvPr/>
        </p:nvSpPr>
        <p:spPr>
          <a:xfrm>
            <a:off x="4052880" y="3352680"/>
            <a:ext cx="11430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4200480" y="3200400"/>
            <a:ext cx="709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1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66640" y="75960"/>
            <a:ext cx="857736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CP/IP</a:t>
            </a:r>
            <a:br>
              <a:rPr sz="3200"/>
            </a:br>
            <a:r>
              <a:rPr b="1" lang="en-US" sz="2200" spc="-1" strike="noStrike">
                <a:solidFill>
                  <a:srgbClr val="f0eddf"/>
                </a:solidFill>
                <a:latin typeface="Gill Sans MT"/>
              </a:rPr>
              <a:t>TRANSMISSION CONTROL PROTOCOL/INTERNET PROTOCOL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1430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CP/IP has been adopted as the official communication protocol of the Internet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CP and IP have different functions that work together to ensure reliable communication over the Interne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8679-BFD5-4056-8ADC-909DC03E6DAE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14000" y="75960"/>
            <a:ext cx="8729640" cy="1014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CP</a:t>
            </a:r>
            <a:br>
              <a:rPr sz="3600"/>
            </a:b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RANSMISSION CONTROL PROTOCO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6840" y="1523880"/>
            <a:ext cx="8489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Purpose is to ensure the integrity of communicatio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Breaks files and messages into individual units called packet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F59-C5FC-459A-ACF4-9120689AE439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20667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7" descr="Figure1"/>
          <p:cNvPicPr/>
          <p:nvPr/>
        </p:nvPicPr>
        <p:blipFill>
          <a:blip r:embed="rId1"/>
          <a:stretch/>
        </p:blipFill>
        <p:spPr>
          <a:xfrm>
            <a:off x="304920" y="3352680"/>
            <a:ext cx="8667720" cy="175284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7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P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PROTOCOL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7124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Arial"/>
              </a:rPr>
              <a:t>A set of rules that controls how data is sent between computers on the Internet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routes a packet to the correct destination address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packet gets successively forwarded to the next closest router (a hardware device designed to move network traffic) until it reaches its destination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visualroute.visualware.com/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tracert.com/cgi-bin/trace.pl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00A-3B58-40DC-A7F4-8EAC74DCA064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REASONS FOR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GROWTH IN THE 1990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47920" y="16765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emoval of the ban on commercial activ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velopment of the World Wide Web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y Tim Berners-Lee at CER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velopment of Mosaic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first graphics-based web browser at NCSA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ersonal computers were increasingly available and afforda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18960" indent="-2538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Online service providers offered low-cost connections to the Inter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0183-E67C-47EB-AAAB-F20AAF061BEE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523880" y="1447560"/>
            <a:ext cx="742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Each device connected to the Internet has a unique numeric IP address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ese addresses consist of a set of four groups of numbers, called octets. </a:t>
            </a:r>
            <a:br>
              <a:rPr sz="2800"/>
            </a:br>
            <a:br>
              <a:rPr sz="10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74.125.95.104</a:t>
            </a:r>
            <a:r>
              <a:rPr b="0" lang="en-US" sz="2800" spc="-1" strike="noStrike">
                <a:solidFill>
                  <a:srgbClr val="ffffff"/>
                </a:solidFill>
                <a:latin typeface="Sabon-Roman"/>
                <a:ea typeface="Arial"/>
              </a:rPr>
              <a:t> will get you Google!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 IP address may correspond to a domain name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773-1546-43EA-AA02-847E9344185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OMAIN NAM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Locates an organization or other entity on the Internet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omain Name Syste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Divides the Internet into logical groups and understandable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ssociates unique computer IP Addresses with the text-based domain names you type into a web browser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Browser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google.com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Address: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74.125.95.104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6D3-57B0-40D5-99B7-E83D916A934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IFORM RESOURCE IDENTIFI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2860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RI – Uniform Resource Identifie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dentifies a resource on the Interne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URL – Uniform Resource Locator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type of URI which represents the network location of a resource such as a web page, a graphic file, or an MP3 file. </a:t>
            </a:r>
            <a:r>
              <a:rPr b="0" lang="en-US" sz="16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CDB1-C3C3-40C1-A01D-8BF09197748F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23623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236232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9" descr="Figure1"/>
          <p:cNvPicPr/>
          <p:nvPr/>
        </p:nvPicPr>
        <p:blipFill>
          <a:blip r:embed="rId1"/>
          <a:stretch/>
        </p:blipFill>
        <p:spPr>
          <a:xfrm>
            <a:off x="914400" y="4038480"/>
            <a:ext cx="7189920" cy="16052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9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LD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OP-LEVEL DOMAIN NAM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3316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A top-level domain (TLD) identifies the right-most part of the domain name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urrent generic TLD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.com, .org, .net, .mil, .gov, .edu, .int, .aero, .asia, .cat, .jobs, .name, .biz, .mobi, .museum, .info, .coop, .post, .pro, .tel, .travel, .xx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A478-A393-4180-B2FF-55820D48E96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COUNTY CODE TLD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520" y="1523520"/>
            <a:ext cx="8564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wo character codes originally intended to indicate the geographical location (country) of the web site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 practice, it is fairly easy to obtain a domain name with a country code TLD that is not local to the registran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.tv, .ws, .au, .jp, .u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See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iana.org/cctld/cctld-whois.htm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4B02-9588-418E-BABF-052A039EC2B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DOMAIN NAME SYSTE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143000"/>
            <a:ext cx="824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Domain Name System (DNS) associat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omain Names with IP address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266-D8CC-45BA-9126-DDA114B9652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467-47E0-4241-9216-250013B57059}" type="slidenum">
              <a:rPr b="0" lang="en-US" sz="1200" spc="-1" strike="noStrike">
                <a:solidFill>
                  <a:srgbClr val="002f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304920" y="3429000"/>
            <a:ext cx="2590560" cy="114300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25"/>
          <p:cNvSpPr/>
          <p:nvPr/>
        </p:nvSpPr>
        <p:spPr>
          <a:xfrm>
            <a:off x="304920" y="2133720"/>
            <a:ext cx="7315200" cy="129528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3352680" y="2743200"/>
            <a:ext cx="2057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3352680" y="2209680"/>
            <a:ext cx="20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ain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10"/>
          <p:cNvSpPr/>
          <p:nvPr/>
        </p:nvSpPr>
        <p:spPr>
          <a:xfrm flipH="1">
            <a:off x="3276720" y="327672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3557880" y="281952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3352680" y="4419720"/>
            <a:ext cx="22100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>
            <a:off x="2913840" y="350532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PC/I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HTTP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Picture 14" descr="MCj04247900000[1]"/>
          <p:cNvPicPr/>
          <p:nvPr/>
        </p:nvPicPr>
        <p:blipFill>
          <a:blip r:embed="rId1"/>
          <a:stretch/>
        </p:blipFill>
        <p:spPr>
          <a:xfrm>
            <a:off x="6858000" y="4114800"/>
            <a:ext cx="1708200" cy="177804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15"/>
          <p:cNvSpPr/>
          <p:nvPr/>
        </p:nvSpPr>
        <p:spPr>
          <a:xfrm>
            <a:off x="7806600" y="3352680"/>
            <a:ext cx="97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2791800" y="4648320"/>
            <a:ext cx="38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TCP/I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HTTP Respon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web page files &amp;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17"/>
          <p:cNvSpPr/>
          <p:nvPr/>
        </p:nvSpPr>
        <p:spPr>
          <a:xfrm flipH="1">
            <a:off x="3429000" y="58672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18" descr="MCj04316420000[1]"/>
          <p:cNvPicPr/>
          <p:nvPr/>
        </p:nvPicPr>
        <p:blipFill>
          <a:blip r:embed="rId2"/>
          <a:stretch/>
        </p:blipFill>
        <p:spPr>
          <a:xfrm>
            <a:off x="1295280" y="4800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1" descr="MCj04315660000[1]"/>
          <p:cNvPicPr/>
          <p:nvPr/>
        </p:nvPicPr>
        <p:blipFill>
          <a:blip r:embed="rId3"/>
          <a:stretch/>
        </p:blipFill>
        <p:spPr>
          <a:xfrm>
            <a:off x="1143000" y="3048120"/>
            <a:ext cx="1523880" cy="134460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29"/>
          <p:cNvSpPr/>
          <p:nvPr/>
        </p:nvSpPr>
        <p:spPr>
          <a:xfrm>
            <a:off x="6248520" y="2209680"/>
            <a:ext cx="1066680" cy="83844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22"/>
          <p:cNvSpPr/>
          <p:nvPr/>
        </p:nvSpPr>
        <p:spPr>
          <a:xfrm>
            <a:off x="330480" y="220968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24"/>
          <p:cNvSpPr/>
          <p:nvPr/>
        </p:nvSpPr>
        <p:spPr>
          <a:xfrm>
            <a:off x="304920" y="6035760"/>
            <a:ext cx="2590560" cy="825480"/>
          </a:xfrm>
          <a:prstGeom prst="rect">
            <a:avLst/>
          </a:prstGeom>
          <a:solidFill>
            <a:srgbClr val="9bbb5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 Brows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s web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AutoShape 30"/>
          <p:cNvSpPr/>
          <p:nvPr/>
        </p:nvSpPr>
        <p:spPr>
          <a:xfrm>
            <a:off x="6553080" y="2590920"/>
            <a:ext cx="1067040" cy="83808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AutoShape 5"/>
          <p:cNvSpPr/>
          <p:nvPr/>
        </p:nvSpPr>
        <p:spPr>
          <a:xfrm>
            <a:off x="5791320" y="2514600"/>
            <a:ext cx="1143000" cy="838080"/>
          </a:xfrm>
          <a:prstGeom prst="flowChartMagneticDisk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24"/>
          <p:cNvSpPr/>
          <p:nvPr/>
        </p:nvSpPr>
        <p:spPr>
          <a:xfrm>
            <a:off x="6324480" y="6561000"/>
            <a:ext cx="281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305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6840" y="1600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SGML – Standard Generalized Markup Languag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standard for specifying a markup language or tag set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HTML – Hypertext Markup Languag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The set of markup symbols or codes placed in a file intended for display on a web brows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4543-830A-44FA-A4E2-0375F2E591D0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2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33520" y="14475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XML – eXtensible Markup Languag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A text-based language designed to describe, deliver, and exchange structured informatio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is not intended to replace HTML –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is intended to extend the power of HTML by separating data from presentation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2B2-7B2E-41DB-8DF8-419A54A9CFC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3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4560" y="14475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XHTML – eXtensible Hypertext Markup Languag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Developed by the W3C as the reformulation of HTML 4.0 as an application of XML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Arial"/>
              </a:rPr>
              <a:t>It combines the formatting strengths of HTML 4.0 and the data structure and extensibility strengths of XML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4A19-0142-44C7-979D-CC4F6E14222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MARKUP LANGUAGES (4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60912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  <a:ea typeface="Arial"/>
              </a:rPr>
              <a:t>HTML 5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Arial"/>
              </a:rPr>
              <a:t>The next version of HTML 4 and XHTM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tp://www.w3.org/html/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CFB-9A4C-4C5F-9C11-6464AC37545C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THE  WORLD  WIDE  WEB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907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he graphical user interface to information stored on computer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connected to the Interne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F04A-55AE-4A67-A92E-65AD2B1553EE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18" descr="C:\Users\DrMorris\AppData\Local\Microsoft\Windows\Temporary Internet Files\Content.IE5\S3AUFVY0\MP900424389[1].jpg"/>
          <p:cNvPicPr/>
          <p:nvPr/>
        </p:nvPicPr>
        <p:blipFill>
          <a:blip r:embed="rId1"/>
          <a:stretch/>
        </p:blipFill>
        <p:spPr>
          <a:xfrm>
            <a:off x="5394240" y="3889440"/>
            <a:ext cx="292104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 1.2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600200" y="13716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Describe the components of the client/server model as applied to the Internet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Identify two protocols used on the Internet to convey information that use the Internet but do not use the Web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Frutiger-Italic"/>
              </a:rPr>
              <a:t>Explain the similarities and differences between a URL and a domain name.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DE0D-1A6E-4407-BADD-58EFAF563FDA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OPULAR USES OF THE INTERNE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inued importance of E-Comme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bile Acces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Blog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RS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odcas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eb 2.0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5A2A-E254-4730-B17F-115CCEDE8D1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This chapter provided a brief overview of Internet, Web, and introductory networking concepts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47F0-9465-4D2B-BE8E-16C66A84BA51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STANDARDS &amp; COORDIN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599840" y="1447560"/>
            <a:ext cx="72709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Internet Socie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 professional organization that provides leadership in addressing issues related to the future of the Interne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ETF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-- Internet Engineering Task For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097280" indent="-26172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FC – Requests for Comm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13160" indent="-2620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AB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– Internet Architecture Board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F49D-963C-464E-A41A-D00F454CA4F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659592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GROWTH OF THE INTERNE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28600" y="610236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ill Sans MT"/>
              </a:rPr>
              <a:t>http://www.internetworldstats.com/stats.htm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629-9C7E-4B20-A1E4-3A3172CDC8A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8" descr="Figure1"/>
          <p:cNvPicPr/>
          <p:nvPr/>
        </p:nvPicPr>
        <p:blipFill>
          <a:blip r:embed="rId1"/>
          <a:stretch/>
        </p:blipFill>
        <p:spPr>
          <a:xfrm>
            <a:off x="152280" y="1371600"/>
            <a:ext cx="8898120" cy="41911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6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INTERNET STANDARDS &amp; COORDINATION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609480" y="1447560"/>
            <a:ext cx="8337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ICANN -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Internet Corporation for Assigned Numbers &amp;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Non-profit organization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ain function is to coordinate the assignment of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ternet domain nam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P address numb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tocol paramet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88596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tocol port numb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396-475B-4CE5-951B-42FC12A530B3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INTRANET &amp; EXTRANE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tra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private network contained within an organization or business used to share information and resources among coworker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xtrane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A private network that securely shares part of an organization’s information or operations with external partner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866-75EC-439F-B02B-1DC540839EF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WEB STANDARDS 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AND THE W3C CONSORTIUM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523520" y="16765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W3C – World Wide Web Consortium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Develops recommendations and prototype technologies related to the Web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roduces specifications, called Recommendations, in an effort to standardize web technologies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WAI – Web Accessibility Initiative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7E75-D2B6-47CC-814C-F6B85C946D6B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2:49:49Z</dcterms:created>
  <dc:creator>Terry Felke-Morris</dc:creator>
  <dc:description/>
  <dc:language>en-US</dc:language>
  <cp:lastModifiedBy>Paradise, Cheryl</cp:lastModifiedBy>
  <dcterms:modified xsi:type="dcterms:W3CDTF">2013-08-20T17:01:29Z</dcterms:modified>
  <cp:revision>55</cp:revision>
  <dc:subject>Chapter 1</dc:subject>
  <dc:title>Web Developer &amp; Design Foundations with XHTML</dc:title>
</cp:coreProperties>
</file>